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DCF5-699E-46F8-BBE3-78B1B3F72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2342-23A1-4DAE-B89F-2DE05DC1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6195-9851-4189-B317-671CBA54D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A54C-E198-4361-A95A-FD0991432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D7DA8-AC1E-469F-A45E-9D236D30E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63596-83D7-4C56-9838-A92BC1354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4FE5B-982A-45CF-A8E2-7B56EDE69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31446-752E-4144-A5DC-3CCEFE91A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1D7AD-AD7E-4887-B1F0-528A98C27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A0B58-293E-484D-BF4F-706E6F536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36E02-F779-4DB4-BDDE-C677B41D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B5B1-8224-4020-AA54-8EDD24608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38580-BE71-4B88-8BDD-EA57F45C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5E1DB-75DF-4BCF-ADA7-75F6D860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0059D-DC66-47D0-BFD4-D46035F24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79B2E-9B84-442D-AF3B-3E24CB5BC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8EC5B-13E9-4398-AAF0-2FFF05644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B0CD-037E-4D37-B04B-951E311A7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1BC7-B523-4CB2-AD1B-B4F8EBDC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B55C-1BF6-4F6E-9836-A24CBC2C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5A6E-E2F7-4D22-9329-E723D78F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E9CE-5201-4E7D-BF2C-0144C889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8B74-DCCD-450A-A583-1B81427B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19AD-72E3-4935-A700-1D4DF1F3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23089-C3B4-4911-97C6-6C2C3040CB0C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2569-B784-4CFA-A21E-FF8D8749B2B7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1371600"/>
            <a:ext cx="44956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ontinue the rhyme: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“Humpty – Dumpty sat on a wall …”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7238880" y="6216120"/>
            <a:ext cx="11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30 poi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16920" y="5028120"/>
            <a:ext cx="6339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…</a:t>
            </a: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Humpty Dumpty had a great fal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All the king's horses and all the king's m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Couldn't put Humpty Dumpty in his place again.</a:t>
            </a: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162400" y="0"/>
            <a:ext cx="3981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09-01-26T16:12:51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